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5759-63DF-4B11-9563-FB059FD39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7666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42B9-5D37-4CBE-826A-1E3C600BF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2193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7666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37666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7B7F-3572-4735-BECC-1AA7FB070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48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580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48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580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1B434-8D85-48A6-ABF0-DB4474328A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D31F-FCCE-4977-B94B-676BF52938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1FEA-4B99-4368-9912-D8C00EF2B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21932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3897-5780-4644-BE18-AFC8826C6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E8EC-F849-47A9-908F-F418094B7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380880"/>
            <a:ext cx="8305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8A0C-983E-41AD-8A7F-F609B4726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21932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7666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C5D8-3BE0-4275-8FF8-5CBA9D657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4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2193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37666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35DD-FC54-43A7-ACA6-751193891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2193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7666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B240-5695-4DA3-82FE-0C748BC8B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763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Ing del Software II. Part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19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BA19-1E83-49C2-8555-B1EDBC027351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419040"/>
            <a:ext cx="868680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UVEG1" descr=""/>
          <p:cNvPicPr/>
          <p:nvPr/>
        </p:nvPicPr>
        <p:blipFill>
          <a:blip r:embed="rId3"/>
          <a:stretch/>
        </p:blipFill>
        <p:spPr>
          <a:xfrm>
            <a:off x="0" y="6129360"/>
            <a:ext cx="76212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1946160"/>
            <a:ext cx="73324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Ingeniería del Softwar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Ingeniería del Software de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istemas Basados en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Y de Distribuc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em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stemas  de Componentes Distribuidos.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b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rrespondencia Basica de IDL con C++. Funcionamiento Servidor.</a:t>
            </a:r>
            <a:r>
              <a:rPr b="1" lang="es-ES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4FA0-34BD-4225-8F90-C7E8356DB1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8800" y="914400"/>
            <a:ext cx="80064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Funcion que situa en una nueva localizacion un disposi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metro_impl::set_localizacion(const char * lo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f (ICP_set(m_anum, "localizacion", loc) != 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bort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Constructo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metro_impl::Termometro_impl(SCT::NumeroIdem      anum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onst char *        localizacion) : m_anum(anum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f (ICP_online(anum) != 0)      // Comprueba si un dispositivo esta on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bort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et_localizacion(localizacion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m_ctrl-&gt;add_impl(anum, this);   // Se añade al controlado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Destructo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metro_impl::~Termometro_impl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m_ctrl-&gt;remove_impl(m_anum); // Quitamos el dispositivo del controlad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CP_offline(m_anum);         // Marcamos el controlador como off-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 catch (...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bort();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IDL modelo 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mModelo Termometro_impl::modelo() throw(CORBA::SystemExcep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get_modelo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E74A-D10F-407D-ABE8-F54CE5650A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440" y="914400"/>
            <a:ext cx="830376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IDL numer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NumeroIdem Termometro_impl: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numero() throw(CORBA::SystemExcep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m_anum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IDL tempera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Temp Termometro_impl::temperatura() throw(CORBA::SystemExcep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get_temperatura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IDL localizacio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Loc Termometro_impl::localizacion() throw(CORBA::SystemExcep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get_localizacion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IDL cambiar localizacion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void Termometro_impl::localizacion(const char * loc) throw(CORBA::SystemExcep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et_localizacion(loc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Funcion para coger la temperatura nominal de un termostat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Temp Termostato_impl::get_nominal_temp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hort temp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f (ICP_get(m_anum, "temperatura_nominal", &amp;temp, sizeof(temp)) != 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bort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temp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8E8B-6149-45E2-BAE5-C9E0FB4772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2120" y="973080"/>
            <a:ext cx="869976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Funcion que cambia la temperatura nomin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Temp Termostato_impl::set_nominal_temp(SCT::TipoTemp nueva_tem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hrow(SCT::Termostato::TempFueraRang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hort temp_an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Primero se devuelve la anterior temperat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f (ICP_get(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m_anum, "temperatura_nominal", &amp;temp_ant, sizeof(temp_a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) != 0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bort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Ponemos la nueva temperatura nomi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f (ICP_set(m_anum, "Temperatura_nominal", &amp;nueva_temp) != 0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Si falla ICP_Set lanzamos un excepcio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ermostato::DatosEfr efr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CP_get(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m_anum, "MIN_TEMP"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&amp;efr.min_permitido, sizeof(efr.min_permitid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CP_get(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m_anum, "MAX_TEMP"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&amp;efr.max_permitido, sizeof(efr.max_permitid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efr.solicitud = nueva_temp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efr.msg_error = CORBA::string_dup(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nueva_temp &gt; efr.max_permitted ? "Demasiado Caliente" : "Demasiado Frio”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hrow SCT::Termostato::TempFueraRanto(efr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temp_an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0608-D245-4929-B541-03D65E220D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" y="996840"/>
            <a:ext cx="802944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Constructo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stato_impl::Termostato_impl(SCT::NumeroIdem      anum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onst char *        localizacion,    SCT::TipoTemp       temp_nomi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) : Termometro_impl(anum, localizac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la mayor parte de la faena la ha hecho el constructor de termome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et_nominal_temp(temp_nominal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IDL leer nomin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Temp Termostato_impl::get_nominal() throw(CORBA::SystemExcep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get_nominal_temp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IDL establecer nomin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Temp Termostato_impl::set_nominal(SCT::TipoTemp nueva_tem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hrow(CORBA::SystemException, SCT::Termostato::TempFueraRang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set_nominal_temp(nueva_temp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Funcion para añadir termometros y termostatos al controlad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ontrolador_impl: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naya_impl(SCT::NumeroIdem anum, Termometro_impl * ti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m_dipositivos[anum] = tip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26D6-D6B0-440F-8101-B70EB8C914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1160" y="1149480"/>
            <a:ext cx="7861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Funcion para eliminar un dispositivo del contro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void Controlador_impl::elimina_impl(SCT::NumeroIdem a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m_dipositivos.erase(anu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IDL lista del controla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SCT::Controlador::ListaTermometros * Controlador_impl::lista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throw(CORBA::SystemExcep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Crea una nueva secuencia de termome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SCT::Controlador::ListaTermometros_var lis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= new SCT::Controlador::ListaTermometros(m_dispositivos.siz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listd-&gt;length(m_dispostivos.siz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Bucle para recorrer todos los dispositivos contro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RBA::ULong conta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AssetMap::iterator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for (i = m_dispositivos.begin(); i != m_dispositivos.end()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listd[count++] = i-&gt;second-&gt;_thi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return listd._ret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120D-07E2-4FE1-BFFF-B9CE5BF20B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3760" y="914400"/>
            <a:ext cx="87152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IDL camb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void Controlador_impl::cambio(const SCT::Controlador::ListaTermostatps &amp;  tlis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RBA::Short delta) throw(CORBA::SystemException, SCT::Controlador::Cambi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SCT::Controlador::CambioT ec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Leemos la temperatura sumanos el incremeto y lu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establecemos la nueva otra v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for (CORBA::ULong i = 0; i &lt; tlist.length()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f (CORBA::is_nil(tlist[i]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ntinue;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SCT::TipoTemp tnom = tlist[i]-&gt;get_nomina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tnom += del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tlist[i]-&gt;set_nominal(tn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atch (const SCT::Termostato::TempFueraRango &amp; bt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RBA::ULong len = ec.errores.lengt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ec.errores.length(len +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ec.errores[len].idem_tmstat = tlist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ec.errores[len].info = bt.detail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f (ec.errors.length() !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throw e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5D1F-A67D-4C77-A56C-8698AB3E57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2960" y="914400"/>
            <a:ext cx="77094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IDL busc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void Controlador_impl::buscar(SCT::Controlador::ListaBusca &amp; bli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throw(CORBA::SystemExcep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Bucle para recorrer todos los disposi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RBA::ULong ndisp = blist.lengt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for (CORBA::ULong i = 0; i &lt; ndisp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AssetMap::iterator dond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nt n_encontrados = 0;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blist[i].dispositivo= SCT::Termometro::_ni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SCT::Controlador::TipoBusca tb = blist[i].clave._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f (tb == SCT::Controlador::NUMERO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Buscar por num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donde= m_dipositivos.find(blist[i].clave.iden_num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f (donde != m_dipositivos.end(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blist[i].dispositivo = donde-&gt;second-&gt;_thi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Busqueda por LOCALIZACION o MODE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nst char * cadena_b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f (tb == SCT::Controlador::LOCALIZAC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adena_bus = blist[i].clave.loc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adena_bus = blist[i].clave.des_modelo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donde= find_if(m_dispositivos.begin(), m_dipositivos.end(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StrFinder(tb, cadena_bus))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DF17-B5E9-434B-9F31-50BB981BA6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12240" y="914400"/>
            <a:ext cx="9675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Mientras encuentre cos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while (donde != m_dispositivos.end(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f (n_encontrados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blist[i].dispositivo =donde-&gt;second-&gt;_thi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Cada nuevo elemento encontrdo se añade a la secuencia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RBA::ULong nele = blist.lengt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nlist.length(len +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nlist[nele].clave = blist[i].clav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nlist[nele].dispositivo = donde-&gt;second-&gt;_thi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n_encontrados++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donde = find_if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++dond, m_dispositivos.end(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StrFinder(tb, cadena_bu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err &lt;&lt; "Terminado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4166-452E-4DEC-8E56-A72494D392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61200" y="936720"/>
            <a:ext cx="72216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main(int argc, char * argv[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Inicializar el O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RBA::ORB_var orb = CORBA::ORB_init(argc, argv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Coger la Referencia del POA rai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RBA::Object_var 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= orb-&gt;resolve_initial_references("RootPOA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PortableServer::POA_var p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= PortableServer::POA::_narrow(obj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Activar el gestor del P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PortableServer::POAManager_var ge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= poa-&gt;the_POAManage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gestor-&gt;activat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 Crear el Sirviente del Contro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Controlador_impl ctrl_sirvien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B7D5-3A18-434B-94B1-AEDC1EBE6A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6960" y="914400"/>
            <a:ext cx="775044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Crear el objeto CORBA controlador y asociarlo en el POA con el sirvien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Controlador_var ctrl = ctrl_serviente._this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ORBA::String_var str = orb-&gt;object_to_string(ctrl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out &lt;&lt; str &lt;&lt; endl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Creamos unos pocos dispositiv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metro_impl termo1(2029, "Porche"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metro_impl termo2(8053, "Entrada"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metro_impl termo3(1027, "Terraza"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stato_impl tmstat1(3032, "MiHabitacion", 25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stato_impl tmstat2(4026, "TuHavitacion", 22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stato_impl tmstat3(4088, "Cocina", 20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Termostato_impl tmstat4(8042, "salon", 24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Aceptamos Solicitud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orb-&gt;run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atch (const CORBA::Exception &amp; e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err &lt;&lt; "Excepcion CORBA: " &lt;&lt; e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 catch (...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bort();   //Otras excepciones o problem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A6A3-AD50-486B-9039-6C89D3F528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rrespondencia de Interfaces en el Servid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lases Sirv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ncarnación de Objet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ervidor Princip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jemplo de Servidor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scripción del Adaptador de Objetos Por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5335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. In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C626-610D-40D8-B81D-0DCD3FBB9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l Adaptador Portable de Obje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mo ya hemos comentado el Adaptador de Objetos es necesario para poder asociar un objeto CORBA a una encarnación concreta. Sus cometidos concretos s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rear las Referencias a obje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Registrar y activar/desactivar a los sirv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Guardar o gestionar la correspondencia entre  objeto CORBA y sirviente que lo enca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nviar las solicitudes desde el ORB al sirviente adecu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a asignación no tiene que ser siempre siguiendo el mismo formato, sino que se pueden seleccionar un elevado numero de estrategias o políticas alternativas según nuestra aplicació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os Persistentes o Trans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elección automática o manual de los nom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Aplicaciones con un solo hilo o multihi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531E-42E3-424F-BED8-B8B807B56B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l Adaptador Portable de Obje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s estados en que podemos encontrar a un Objeto CORBA en relación con sus sirvientes se reflejan en el siguiente esquema. El control de estos procesos será responsabilidad del POA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l POA no es el responsable de mantener el estado interno de los objetos solo su estado de activación o desactivación asi como la relación con el sirvie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1676520"/>
            <a:ext cx="2666880" cy="4038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92680" y="2158920"/>
            <a:ext cx="1503360" cy="131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92680" y="3914640"/>
            <a:ext cx="1503360" cy="131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bj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s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276720"/>
            <a:ext cx="1587600" cy="87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j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 ex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59360" y="2817720"/>
            <a:ext cx="117000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irv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car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59360" y="3914640"/>
            <a:ext cx="1170000" cy="65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rv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ter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059360" y="3255480"/>
            <a:ext cx="0" cy="87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45120" y="3255840"/>
            <a:ext cx="0" cy="9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373392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373392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3276720"/>
            <a:ext cx="1587600" cy="87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j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 ex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3400" y="335268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e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2040" y="33526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str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8160" y="2158920"/>
            <a:ext cx="84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bje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3400" y="3581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cti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7520" y="358128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sacti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496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7240" y="167652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j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97A7-3D3E-42EE-9ED3-839F056CD5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l Adaptador Portable de Obje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otra gran responsabilidad el POA es entregar adecuadamente las socilitudes al sirviente. En el siguiente esquema se ve el flujo real y el lógico en una comunicación CORB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entidades clave a las que hemos de referirnos cuando hablamos del POA s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ferencias a Objetos. Las crea el PO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dentificadores de Objetos. Identifican al objeto de forma Univoca dentro de ese PO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Sirvi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3276720"/>
            <a:ext cx="4038480" cy="1087200"/>
          </a:xfrm>
          <a:custGeom>
            <a:avLst/>
            <a:gdLst/>
            <a:ahLst/>
            <a:rect l="l" t="t" r="r" b="b"/>
            <a:pathLst>
              <a:path w="2544" h="685">
                <a:moveTo>
                  <a:pt x="0" y="130"/>
                </a:moveTo>
                <a:cubicBezTo>
                  <a:pt x="196" y="219"/>
                  <a:pt x="752" y="685"/>
                  <a:pt x="1176" y="663"/>
                </a:cubicBezTo>
                <a:cubicBezTo>
                  <a:pt x="1600" y="641"/>
                  <a:pt x="2259" y="138"/>
                  <a:pt x="2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133720"/>
            <a:ext cx="213372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ic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2057400"/>
            <a:ext cx="26672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2362320"/>
            <a:ext cx="1904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ferencia a Obj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213372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j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380988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liente O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88620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rvidor O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335268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2895480"/>
            <a:ext cx="11430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rv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2514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4840" y="4267080"/>
            <a:ext cx="191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luj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 la 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41720" y="2286000"/>
            <a:ext cx="101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905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plicación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18288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plicación Serv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92B4-4231-4A75-A88D-DCD5924FF6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Adaptador Portable de Objetos.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líticas de gestión de objetos en los PO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da POA define su forma de trabajar y realizar sus tareas en base a la definición de una serie de política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s objetos que crea un POA son acordes con las políticas con las que se creó dicho PO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SzPct val="1286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ara tener objetos que se atengan a políticas de gestión distintas tendremos que generar distintos POA que los manej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políticas de configuración de los POAs se encuentran dentro del modulo del PortableServer y afectan 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Vida de los Objetos( LifespanPolicy) : TRANSIENT, 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dentificadores de Objetos(IdAssignementPolicy):USER_ID,SYSTEM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spondencia entre Objetos y Servidores(IdUniquenessPolicy):UNIQUE_ID, MULTIPLE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ctivación de Objetos(ImplicitActivationPolicy):IMPLICIT_ACTIVATION, NO_IMPLICIT_AC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Gestión de correspondencia entre Objetos y Servidores (RequestProccesingPolicy):USE_ACTIVE_OBJECT_MAP_ONLY, USE_DEFAULT_SERVANT, USE_SERVANT_MANA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ociaciones identificador de objeto-sirviente(ServantRetentionPolicy): RETAIN, NON_RE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spondencia entre solicitudes e hilos(ThreadPolicy): ORB_CRTL_MODEL, SINGLE_THREAD_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4F92-218A-4314-B187-B7C2B05B61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l Adaptador Portable de Objetos. </a:t>
            </a:r>
            <a:r>
              <a:rPr b="1" lang="es-ES" sz="1700" spc="-1" strike="noStrike">
                <a:solidFill>
                  <a:srgbClr val="000000"/>
                </a:solidFill>
                <a:latin typeface="Tahoma"/>
              </a:rPr>
              <a:t>Correspondencia entre Objetos y Sirvientes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buSzPct val="1209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ahoma"/>
              </a:rPr>
              <a:t>Existe un elevado numero de combinaciones a la hora de seleccionar como se van a responder las peticione de un objeto CORBA y como se van a gestionar, las opciones más comunes  son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Un solo sirviente puede corresponder con varios objetos COR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ada Objeto CORBA utiliza un sirv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13120" y="4648320"/>
            <a:ext cx="5323320" cy="1980360"/>
            <a:chOff x="3813120" y="4648320"/>
            <a:chExt cx="5323320" cy="1980360"/>
          </a:xfrm>
        </p:grpSpPr>
        <p:grpSp>
          <p:nvGrpSpPr>
            <p:cNvPr id="221" name=""/>
            <p:cNvGrpSpPr/>
            <p:nvPr/>
          </p:nvGrpSpPr>
          <p:grpSpPr>
            <a:xfrm>
              <a:off x="6099120" y="4648320"/>
              <a:ext cx="1371240" cy="1980360"/>
              <a:chOff x="6099120" y="4648320"/>
              <a:chExt cx="1371240" cy="1980360"/>
            </a:xfrm>
          </p:grpSpPr>
          <p:sp>
            <p:nvSpPr>
              <p:cNvPr id="222" name=""/>
              <p:cNvSpPr/>
              <p:nvPr/>
            </p:nvSpPr>
            <p:spPr>
              <a:xfrm>
                <a:off x="6099120" y="4648320"/>
                <a:ext cx="1371240" cy="44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99120" y="4868640"/>
                <a:ext cx="1371240" cy="43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9120" y="5088600"/>
                <a:ext cx="1371240" cy="44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99120" y="5308560"/>
                <a:ext cx="1371240" cy="44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99120" y="5528880"/>
                <a:ext cx="1371240" cy="43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99120" y="5748840"/>
                <a:ext cx="1371240" cy="44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99120" y="5968800"/>
                <a:ext cx="1371240" cy="44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099120" y="6189120"/>
                <a:ext cx="1371240" cy="43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813120" y="5638680"/>
              <a:ext cx="16761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51600" y="5333760"/>
              <a:ext cx="68580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5280" y="6095880"/>
              <a:ext cx="68580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08800" y="46483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7520" y="5638680"/>
              <a:ext cx="457200" cy="304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0360" y="5975280"/>
              <a:ext cx="16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Referencia a Obje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24240" y="5486400"/>
              <a:ext cx="150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Puntero  servi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4498560" y="510480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422240" y="5257800"/>
              <a:ext cx="304920" cy="68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184720" y="533340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184720" y="5029200"/>
              <a:ext cx="838080" cy="60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22600" y="5333760"/>
              <a:ext cx="167652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22600" y="5029200"/>
              <a:ext cx="1676520" cy="456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22800" y="5333760"/>
              <a:ext cx="144792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22800" y="5029200"/>
              <a:ext cx="144792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470720" y="5486400"/>
              <a:ext cx="4572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470720" y="4800600"/>
              <a:ext cx="8380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470720" y="6247800"/>
              <a:ext cx="3045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71920" y="5721120"/>
              <a:ext cx="106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irv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22600" y="5029200"/>
              <a:ext cx="1600200" cy="30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ahoma"/>
                </a:rPr>
                <a:t>Identificador Obje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0" y="3505320"/>
            <a:ext cx="1371240" cy="1980360"/>
            <a:chOff x="2286000" y="3505320"/>
            <a:chExt cx="1371240" cy="1980360"/>
          </a:xfrm>
        </p:grpSpPr>
        <p:sp>
          <p:nvSpPr>
            <p:cNvPr id="251" name=""/>
            <p:cNvSpPr/>
            <p:nvPr/>
          </p:nvSpPr>
          <p:spPr>
            <a:xfrm>
              <a:off x="2286000" y="3505320"/>
              <a:ext cx="1371240" cy="44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86000" y="3725640"/>
              <a:ext cx="1371240" cy="43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0" y="3945600"/>
              <a:ext cx="1371240" cy="44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6000" y="4165560"/>
              <a:ext cx="1371240" cy="44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6000" y="4385880"/>
              <a:ext cx="1371240" cy="43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4605840"/>
              <a:ext cx="1371240" cy="44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4825800"/>
              <a:ext cx="1371240" cy="44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0" y="5046120"/>
              <a:ext cx="1371240" cy="43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4495680"/>
            <a:ext cx="1676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191120"/>
            <a:ext cx="6858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4495680"/>
            <a:ext cx="4572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7240" y="483228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ferencia a Obj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11120" y="43434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ntero  serv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685440" y="39621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09120" y="411444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371600" y="41907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371600" y="388584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41911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38862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41911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8862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657600" y="4343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809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657600" y="4495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56640" y="457848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rv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886200"/>
            <a:ext cx="16002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Identificador Obj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7907-63C1-4C1C-9164-55D02A8F6D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Adaptador Portable de Objetos. </a:t>
            </a:r>
            <a:r>
              <a:rPr b="1" lang="es-ES" sz="1500" spc="-1" strike="noStrike">
                <a:solidFill>
                  <a:srgbClr val="000000"/>
                </a:solidFill>
                <a:latin typeface="Tahoma"/>
              </a:rPr>
              <a:t>Operaciones Comunes Sobre el Adaptador de Objeto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469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reación de adaptadores de objeto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La creación de un adaptador de objetos requiere tener definidas una serie de políticas para dicho adaptador las que no estén definidas serán asignadas por defec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469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reacion de objetos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Una vez disponemos de un POA el generar un objeto de ese tipo es sencil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469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Ademas de estas tareas quedarían las de activación de objetos, encarnación, eterealización, etc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38000" y="2133720"/>
            <a:ext cx="7511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nterface POA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POA create POA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n string nombre_adaptado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n POAManager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gesto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n CORBA::PolicyList politic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raises(AdapterAlreadyExists, InvalidPolic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PortableSever::POA_var hijo_POA1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root_poa-&gt;create_POA(“hijo_POA1”,PortableServer::POAManager::_nil(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lista_politica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2480" y="4800600"/>
            <a:ext cx="7663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nterface POA{//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Object create_reference(in CORBA::RepositoryID desc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Object create_reference_with_id(in ObjectOd o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in CORBA::RepositoryId desc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/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3F57-0620-4D14-A307-F8E46A0DB9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TRODUCC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469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mo se comento en la introducción al CORBA, el lado servidor presenta más complejidades que el cliente ya que se involucran los procesos de llamada a la implementación concreta. Los elementos principales involucrados en el lado cliente son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ntorno de ejecución del ORB Servidor.(Recibe Solicitudes y da el soporte básico de comunicaci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Gestor de Adaptadores de Objetos. (Distribuye Entradas y gestiona las colas de petici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daptadores de Objetos (Crean Ref. a Objetos CORB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rvientes (Encarnan el cuerpo de las petici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SzPct val="1469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Un proceso normal de gestión a una solicitud tiene el aspecto siguient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57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07360" y="4114800"/>
            <a:ext cx="6586920" cy="2133720"/>
            <a:chOff x="1107360" y="4114800"/>
            <a:chExt cx="6586920" cy="2133720"/>
          </a:xfrm>
        </p:grpSpPr>
        <p:sp>
          <p:nvSpPr>
            <p:cNvPr id="54" name=""/>
            <p:cNvSpPr/>
            <p:nvPr/>
          </p:nvSpPr>
          <p:spPr>
            <a:xfrm>
              <a:off x="2156040" y="4114800"/>
              <a:ext cx="5396400" cy="213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644640" y="4907160"/>
              <a:ext cx="1178640" cy="765720"/>
              <a:chOff x="3644640" y="4907160"/>
              <a:chExt cx="1178640" cy="765720"/>
            </a:xfrm>
          </p:grpSpPr>
          <p:sp>
            <p:nvSpPr>
              <p:cNvPr id="56" name=""/>
              <p:cNvSpPr/>
              <p:nvPr/>
            </p:nvSpPr>
            <p:spPr>
              <a:xfrm>
                <a:off x="3644640" y="4907160"/>
                <a:ext cx="1178640" cy="609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11600" y="4969080"/>
                <a:ext cx="1047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esto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PO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342160" y="4907160"/>
              <a:ext cx="992520" cy="548640"/>
              <a:chOff x="2342160" y="4907160"/>
              <a:chExt cx="992520" cy="548640"/>
            </a:xfrm>
          </p:grpSpPr>
          <p:sp>
            <p:nvSpPr>
              <p:cNvPr id="59" name=""/>
              <p:cNvSpPr/>
              <p:nvPr/>
            </p:nvSpPr>
            <p:spPr>
              <a:xfrm>
                <a:off x="2342160" y="4907160"/>
                <a:ext cx="992520" cy="54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451240" y="49665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057640" y="4846320"/>
              <a:ext cx="823680" cy="670320"/>
              <a:chOff x="5057640" y="4846320"/>
              <a:chExt cx="823680" cy="670320"/>
            </a:xfrm>
          </p:grpSpPr>
          <p:sp>
            <p:nvSpPr>
              <p:cNvPr id="62" name=""/>
              <p:cNvSpPr/>
              <p:nvPr/>
            </p:nvSpPr>
            <p:spPr>
              <a:xfrm>
                <a:off x="5071680" y="4846320"/>
                <a:ext cx="743760" cy="670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57640" y="5028840"/>
                <a:ext cx="82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6188040" y="4541400"/>
              <a:ext cx="185760" cy="182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36080" y="5090040"/>
              <a:ext cx="185760" cy="182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8040" y="5639040"/>
              <a:ext cx="185760" cy="182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3800" y="5212080"/>
              <a:ext cx="62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34680" y="5212080"/>
              <a:ext cx="37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23280" y="5212080"/>
              <a:ext cx="37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91600" y="5394960"/>
              <a:ext cx="496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15800" y="5212080"/>
              <a:ext cx="61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753880" y="4663440"/>
              <a:ext cx="49608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07360" y="4969440"/>
              <a:ext cx="1211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olici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ntr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3000" y="545616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Servie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7240" y="4724280"/>
              <a:ext cx="72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Env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67AA-6C53-4DA0-8B12-F0363CF273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rrespodencia de Interfaces en el Servi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el caso del servidor las clases en las cuales se mapean los interfaces reciben el nombre de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esqueleto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as clases se corresponden con las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clases proxy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del lado cliente, aunque en estas clases se usan realmente como clases bases para derivar las clases que implementaran las funcionalidades de la aplic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uando realizamos la compilación de un .idl para obtener el esqueleto, solemos obtener un fichero de cabecera con la definición de las clases  y un fichero de implementació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Veamos por ejemplo el esqueleto generado para el siguiente interfaz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57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8120" y="4191120"/>
            <a:ext cx="7381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ourier New"/>
              </a:rPr>
              <a:t>interface MiObjeto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Courier New"/>
              </a:rPr>
              <a:t>long coger_valor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Esqueleto Generado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class POA_MiObjeto: public virtual PortableServer::ServantBase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virtual CORBA::Long coger_valor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throw(CORBA::SystemExcepcion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// y bastante más 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8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BBA6-6179-4E1E-A3E8-6411D204A8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rrespodencia de Interfaces en el Servid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e puede observar que al igual que sucedia en el lado cliente el nombre del interfaz corresponde con el del esqueleto. Sin embargo aquí se añade el prefijo </a:t>
            </a:r>
            <a:r>
              <a:rPr b="0" lang="es-ES" sz="1600" spc="-1" strike="noStrike">
                <a:solidFill>
                  <a:srgbClr val="0000ff"/>
                </a:solidFill>
                <a:latin typeface="Tahoma"/>
              </a:rPr>
              <a:t>‘POA_’.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l uso del prefijo es necesario ya que en algunas ocasiones podemos tener cliente y servidor compartiendo espacio de direccio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olamente el espacio de nombres más externo recibe el prefijo, por ejemplo si nuestro interfaz hubiese estado en un módulo MiModulo solo este hubiese cambiado a POA_MiModulo y la clase de MiObjeto se llamaría igu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odas las clases esqueleto heredan ahora de una clase llamada </a:t>
            </a:r>
            <a:r>
              <a:rPr b="0" lang="es-ES" sz="1600" spc="-1" strike="noStrike">
                <a:solidFill>
                  <a:srgbClr val="0000ff"/>
                </a:solidFill>
                <a:latin typeface="Tahoma"/>
              </a:rPr>
              <a:t>ServantBase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esta clase pertenece al espacio de nombre </a:t>
            </a:r>
            <a:r>
              <a:rPr b="0" lang="es-ES" sz="1600" spc="-1" strike="noStrike">
                <a:solidFill>
                  <a:srgbClr val="0000ff"/>
                </a:solidFill>
                <a:latin typeface="Tahoma"/>
              </a:rPr>
              <a:t>PortableServer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clase ofrece un método con el mismo nombre que tenia la operación del interfaz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clase es puramente virtual y por tanto no puede ser instanciada, como hemos comentado constituye la base para la derivación de las clases que de verdad  implementen la función coger_valor(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286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odas las funciones en el lado cliente puede emitir excepciones de CORBA, por tanto ademas de las excepciones especificadas en el IDL, las funciones siempre tendrán asociado el </a:t>
            </a:r>
            <a:r>
              <a:rPr b="0" lang="es-ES" sz="1600" spc="-1" strike="noStrike">
                <a:solidFill>
                  <a:srgbClr val="0000ff"/>
                </a:solidFill>
                <a:latin typeface="Tahoma"/>
              </a:rPr>
              <a:t>throw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con las excepciones CORB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57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F88C-FDD0-44DC-A800-A2CB3B7A21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lases Sirvien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469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La creación de un objeto CORBA de tipo MiObjeto implica como hemos comentado la derivación de la clase base del esqueleto, siguiendo el ejemplo anterio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469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l sufijo ‘_impl’ no es obligatorio simplemente quiere denotar que es una implementació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469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mo se ve MiObjeto_impl herada de POA_MiObjeto y sobreescribe la función puramente virtual coger_valor. Por tanto ya es una MiObjeto_impl es un clase concreta que puede instanciars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469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odas las funciones virtuales del esqueleto es obligatorio implementarlas. Además de esas podemos añadir las que consideremos necesarias (constructores, operadores sobrecargados …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57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5040" y="1558800"/>
            <a:ext cx="7755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#include “MiObjetoS.h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class MiObjeto_impl: public virtual POA_MiObjeto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MiObjeto_impl(CORBA::Long val_ini):m_valor(val_ini)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virtual CORBA::Long coger_valor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throw(CORBA::SystemExcpetio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CORBA::Long m_valo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//Operadores asignación y cop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MiObjeto_impl(const MiObjeto_impl &amp;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void operador =(cons MiObjeto_impl &amp;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CORBA::Long MiObjeto_impl::coger_valor() throw(CORBA::SystemException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return(m_val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AF96-ABD8-4EB7-919B-60776DDF74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ncarnación de Objet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ara utilizar las clases de sirvientes debemos realizar las siguientes operacion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stanciar un Objeto Sirv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rear un Objeto CORBA (una referencia a obje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gistrar el Sirviente como encarnación del Objeto COR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lo anterior debemos deducir que la mera instanciación de un objeto sirviente no significa la creación de un objeto CORBA, ambas son entidades diferentes, creadas por distintos elementos y con ciclos de vida distint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SzPct val="1286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Veamos un ejemplo del proceso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reación del Objeto Sirvie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800000"/>
                </a:solidFill>
                <a:latin typeface="Courier New"/>
              </a:rPr>
              <a:t>MiObjeto_impl sirviente(4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reacion de un objeto CORBA y asociaciación del sirviente como encarnación del dicho ob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800000"/>
                </a:solidFill>
                <a:latin typeface="Courier New"/>
              </a:rPr>
              <a:t>MiObjeto_var objeto=sirviente._thi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l método </a:t>
            </a:r>
            <a:r>
              <a:rPr b="0" lang="es-ES" sz="1600" spc="-1" strike="noStrike">
                <a:solidFill>
                  <a:srgbClr val="0000ff"/>
                </a:solidFill>
                <a:latin typeface="Tahoma"/>
              </a:rPr>
              <a:t>_thi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que se genera automáticamente dentro de cada clase esqueleto, realiza de forma implicita las siguientes accion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SzPct val="1286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rea un Objet CORBA asociado el Adaptador de Objetos Raiz (RootPO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SzPct val="1286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gistra el sirviente dentro del RootPOA como la implementación del nuevo objeto, que será en este caso transitori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SzPct val="1286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rea y devuelve una referencia para el nuevo objeto CORB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57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8C33-033F-4C0A-8E80-C02C13AA5C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structura del Servidor Princip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176"/>
              </a:spcBef>
              <a:buSzPct val="1469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l lado cliente tenia que establecer una serie de llamadas antes de empezar a trabajar con las funcionalidades CORB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176"/>
              </a:spcBef>
              <a:buSzPct val="1469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n el caso del servidor también será necesario realizar una serie de pasos para comenzar a ofrecer acceso a los servicios que preste esa aplicación en concreto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stablecer la conexión con el O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CORBA:ORB_var orb=CORBA::ORB_init(argc,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Obtener la dirección del Raiz de los Adaptadores de Obje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CORBA::Objetct_var obj= orb-&gt;resolve_initial_references(“RootPOA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PortableSever::POA_var  poa= PortableSever::POA::_narrow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ctivar el gestor del Adaptador de Objetos Ra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PortableServer::POAManager_var gestor=poa-&gt;the_POAManag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gestor-&gt;activat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rear los Sirvien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MiObjeto_impl sirviente(4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rear los objetos CORBA y asociarle sus sirv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MiObjeto_var objeto= sirviente._thi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gistrar estas referencias en las forma que se haya especificado para la a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CORBA::String_var cadenaref=orb-&gt;obj_to_string(objet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cout&lt;&lt;cadenaref&lt;&lt;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sperar las solicitudes de entrada a los objetos COR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00"/>
                </a:solidFill>
                <a:latin typeface="Courier New"/>
              </a:rPr>
              <a:t>orb-&gt;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57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ED8B-8604-4CD7-8386-C1A74FD700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47920"/>
            <a:ext cx="73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jemplo del Sistema de Control de Tempera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6094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657600"/>
            <a:ext cx="769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0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5050"/>
                </a:solidFill>
                <a:latin typeface="Century Gothic"/>
              </a:rPr>
              <a:t>Funcionamiento del Servidor COR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833400"/>
            <a:ext cx="8077320" cy="59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#include    &lt;iostream.h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#include    &lt;algorithm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#include    "icp.h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#include    "servidor.hh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ontrolador_impl * Termometro_impl::m_ctrl; // miembro estati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Funcion que lee la cadena de modeloo de un dispositiv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Modelo Termometro_impl::get_modelo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har buf[32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f (ICP_get(m_anum, "modelo", buf, sizeof(buf)) != 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bort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CORBA::string_dup(buf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Funcion que devuelve la temperatura de un dispositiv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Temp Termometro_impl::get_temperatura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hort temp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f (ICP_get(m_anum, "temperatura", &amp;temp, sizeof(temp)) != 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bort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temp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// Funcion que devuelve la localizacion de un dispositiv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SCT::TipoLoc Termometro_impl::get_localizacio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char buf[32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if (ICP_get(m_anum, "localizacion", buf, sizeof(buf)) != 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abort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return CORBA::string_dup(buf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g. Soft. II - Tema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0FEA-B4F2-4AC0-9C9A-01607994D9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0:56:25Z</dcterms:created>
  <dc:creator>jesus</dc:creator>
  <dc:description/>
  <dc:language>en-US</dc:language>
  <cp:lastModifiedBy>jalbert</cp:lastModifiedBy>
  <dcterms:modified xsi:type="dcterms:W3CDTF">2002-05-15T07:51:03Z</dcterms:modified>
  <cp:revision>127</cp:revision>
  <dc:subject/>
  <dc:title>El problema del Software</dc:title>
</cp:coreProperties>
</file>